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80352B0-D4D4-466B-B23B-45E588262B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6F6D331-D4DE-4F33-9859-426811F108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 multi-log, replay from initi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combination, ordering, may succeed or fail (confli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: honour user intents, don’t f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FA5406D-A449-405B-B947-C03D586043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7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der some action 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 precondition on initial value (otherwise abort compu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e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ify postcondition relating last value to next value (otherwis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tall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oncurrent action g may be incorrect because the last value is not the initial value, postcondition violated.  Special c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precondition independent from f’s postcondition and vice-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read set and write sets disjoint from f’s write set [and vice-versa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: abort concurrent g, replay sequentially.  However this might not work because now the precondition is violated. This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-befor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causal ordering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conservative approximation of caus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current actions are not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ependent actions may be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ausal dependence, more precise than syntactic approx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 between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intent constraint connects two particular actions in a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s characterise user i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 is a static constraint i.e. evaluated without reference to the shared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mantic constraint connects two method calls, across all possible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es semantics of shared object: method of shared object, written by object progr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constraint = Bayou dependenc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any dependency checks can be made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D0B8C28-DC6B-4171-9888-8647AA508B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l back to state 0, combine updates, fin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all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differ in set, order of actions; bu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ivalenc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it “best”.  More precisely: equivalence class of best schedules yielding identical fin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binations fail (violate invari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concept: expose invariants to sys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ual split of “invariants” into “static constraints” and “dynami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ise: ignore temporal dependency/independence, only consider true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constrai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ise: generate schedules that verify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t scheduling and exec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running all schedules in parallel choose one (or a small number) &amp; ru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dynamic constraint during execution; if fails, roll back and try a different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exhaustive search, use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DD06FE5-8454-4E6D-9E99-9719187EA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153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justifies our intuition that search is superior to any syntactic (i.e. predefined) order, e.g. timestamp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pplication (calendar) – later I will present the details of the experiments – now just note that syntactic ordering (in these experiments) is not able to schedule about 13% of the actions.  Instead our search algorithm is able to schedule almost all possible actions – even on inputs of non-trivial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ynthetic benchmark data with alternatives but no true conflicts; optimal = all ac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Single Log” line represents throwing away every action in one log and keeping the other, i.e.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o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licy.  So think of the Single Log (purple) as your base line.  The “Concatenate” line (green) is representative of any syntactic algorithm.  It is about 78% of the way between Single Log and Optimal, i.e. it is 22% worse than Optimal. The IceCube search (red crosses) is indistinguishable from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searching all possible schedules is im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is related to log constra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esence of log constraints, soundness makes the convergence problem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 well for file systems (no log constrai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 soun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itted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jointness is what makes convergence h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ists even when there are no log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objects == no log constraints; soundness is triv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670541E-BCC0-4A6C-A611-D4A5169CDD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303-8A5E-4575-89C3-48D83C30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F73-9FB6-4651-B252-421059E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916-7EBA-4982-ACE4-88D1F1FF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EB3-D7A6-42E3-947F-15EAE805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DE52-82CE-4087-8577-1DA41840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BA8F-6A08-4E79-A3EF-75625C3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0337-388E-491E-8906-831359C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843-8E14-49E0-A28A-81C15798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445-2F50-4CB0-922A-508BE342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F16-9FEC-45CD-90EF-5CF36865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2A6-CAD6-48E7-8321-5A0B19D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4CE-31F9-4A9C-ABBE-01EECBB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BB0-FCA6-46F6-B286-036121E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D97-A331-44DA-919A-9B74C8F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BD0B-5F61-46A3-B1BB-56910A6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C7E-AC0E-4325-B338-6B3FA0AC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8D3-72D8-4A2B-9F26-C6A0145F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099-C3BB-460F-A1BB-62335C4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21A-4288-4EBB-BD55-BCD141E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72C-55C2-42ED-BE9A-ED741173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CCB-BE59-416F-B952-FBE1EFC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22-830B-4017-B43C-A7A72EB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C87-8A45-4752-8CD2-2A14641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20F-EA5C-4C28-92C4-F827501A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8000" y="6453360"/>
            <a:ext cx="27147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05440" y="6459120"/>
            <a:ext cx="3992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0840" y="6453360"/>
            <a:ext cx="5511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671-94B5-407F-A548-EB40E79099C0}" type="slidenum">
              <a:rPr b="0" lang="en-US" sz="1000" spc="-1" strike="noStrike">
                <a:solidFill>
                  <a:srgbClr val="4fa19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187280" y="439200"/>
            <a:ext cx="0" cy="87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838080"/>
            <a:ext cx="174600" cy="19872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3800" y="838080"/>
            <a:ext cx="174600" cy="19872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8320" y="838080"/>
            <a:ext cx="174600" cy="19872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3D4-DF99-4B74-BBFF-7C5825B4DBED}" type="slidenum">
              <a:rPr b="0" lang="en-US" sz="1000" spc="-1" strike="noStrike">
                <a:solidFill>
                  <a:srgbClr val="5f97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1631880"/>
            <a:ext cx="347760" cy="34776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1633680"/>
            <a:ext cx="349200" cy="34740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1633680"/>
            <a:ext cx="347760" cy="34740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3" marL="13716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4" marL="18288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65419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08080"/>
                </a:solidFill>
                <a:latin typeface="Arial"/>
              </a:rPr>
              <a:t>Partage d’information à grande échelle</a:t>
            </a:r>
            <a:endParaRPr b="0" lang="en-US" sz="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58560" y="4597200"/>
            <a:ext cx="698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icrosoft Sans Serif"/>
              </a:rPr>
              <a:t>Marc Shapiro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5373720"/>
            <a:ext cx="334836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1640" y="69228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6119640"/>
            <a:ext cx="69850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Cambridge Distributed Systems</a:t>
            </a:r>
            <a:r>
              <a:rPr b="0" lang="fr-F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Group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éplication optimist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2001+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1766880"/>
            <a:ext cx="73440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artage en écriture décentralis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ceCube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teur général de réconcili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ournalisation d’opér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amétré par la sémant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hérence à ter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dèle : opérations + contrain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ûreté + vivac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invariant globa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écrire et comprendre les solu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ès prélimin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21-7893-4462-BF45-B11E970CC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2. Réplication optimiste et IceCub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replication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8360" y="1628640"/>
            <a:ext cx="6696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Replicas 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f shared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on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Without synchronisation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eer-to-peer read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update!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pplica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igh latency network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connected oper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operative wor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roves availability &amp; performa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a posteriori, offli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 independent upda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678-E52E-4056-9B97-EF1AF21ADF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cooperative engineering with CV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8360" y="2058480"/>
            <a:ext cx="734400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VS: developing shared cod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Local, disconnected replica: no interfe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onflic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Write same file =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syntactic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verlap in file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dit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Doesn’t compile, test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application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Both sides of a conflict are exclud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Manual repa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33F-36B5-41F1-BAC9-EFD28D5052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General-purpose databas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ny replica can update, log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ction = { dependency check, operation, merge-procedure }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timistic replicat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exchange log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{ roll-back, replay }*;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-check: semantic check for conflict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-proc: semantic repai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FD1-08EE-4D39-9CCD-41EE10C011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4"/>
            <a:endCxn id="220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221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eration-based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4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59280" y="2206800"/>
            <a:ext cx="360360" cy="4032000"/>
            <a:chOff x="3059280" y="2206800"/>
            <a:chExt cx="360360" cy="4032000"/>
          </a:xfrm>
        </p:grpSpPr>
        <p:sp>
          <p:nvSpPr>
            <p:cNvPr id="220" name=""/>
            <p:cNvSpPr/>
            <p:nvPr/>
          </p:nvSpPr>
          <p:spPr>
            <a:xfrm>
              <a:off x="3059280" y="22068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58784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228" name=""/>
          <p:cNvCxnSpPr>
            <a:stCxn id="225" idx="4"/>
            <a:endCxn id="227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229" name=""/>
          <p:cNvGrpSpPr/>
          <p:nvPr/>
        </p:nvGrpSpPr>
        <p:grpSpPr>
          <a:xfrm>
            <a:off x="1735200" y="2306520"/>
            <a:ext cx="144360" cy="3816360"/>
            <a:chOff x="1735200" y="2306520"/>
            <a:chExt cx="144360" cy="3816360"/>
          </a:xfrm>
        </p:grpSpPr>
        <p:sp>
          <p:nvSpPr>
            <p:cNvPr id="230" name=""/>
            <p:cNvSpPr/>
            <p:nvPr/>
          </p:nvSpPr>
          <p:spPr>
            <a:xfrm>
              <a:off x="173520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520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33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e1f3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59280" y="3833640"/>
            <a:ext cx="3242160" cy="998640"/>
            <a:chOff x="4859280" y="3833640"/>
            <a:chExt cx="3242160" cy="998640"/>
          </a:xfrm>
        </p:grpSpPr>
        <p:cxnSp>
          <p:nvCxnSpPr>
            <p:cNvPr id="235" name=""/>
            <p:cNvCxnSpPr>
              <a:stCxn id="236" idx="4"/>
              <a:endCxn id="237" idx="2"/>
            </p:cNvCxnSpPr>
            <p:nvPr/>
          </p:nvCxnSpPr>
          <p:spPr>
            <a:xfrm>
              <a:off x="5219640" y="465264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8" idx="4"/>
              <a:endCxn id="240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</p:grpSp>
      <p:sp>
        <p:nvSpPr>
          <p:cNvPr id="241" name=""/>
          <p:cNvSpPr/>
          <p:nvPr/>
        </p:nvSpPr>
        <p:spPr>
          <a:xfrm>
            <a:off x="3755880" y="342756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101080" y="3833640"/>
            <a:ext cx="360360" cy="998640"/>
            <a:chOff x="8101080" y="3833640"/>
            <a:chExt cx="360360" cy="998640"/>
          </a:xfrm>
        </p:grpSpPr>
        <p:sp>
          <p:nvSpPr>
            <p:cNvPr id="237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2a555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472000" y="39337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96000" y="3933720"/>
            <a:ext cx="144360" cy="782640"/>
            <a:chOff x="5796000" y="3933720"/>
            <a:chExt cx="144360" cy="782640"/>
          </a:xfrm>
        </p:grpSpPr>
        <p:sp>
          <p:nvSpPr>
            <p:cNvPr id="245" name=""/>
            <p:cNvSpPr/>
            <p:nvPr/>
          </p:nvSpPr>
          <p:spPr>
            <a:xfrm>
              <a:off x="579600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600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19640" y="3933720"/>
            <a:ext cx="144720" cy="782640"/>
            <a:chOff x="6119640" y="3933720"/>
            <a:chExt cx="144720" cy="782640"/>
          </a:xfrm>
        </p:grpSpPr>
        <p:sp>
          <p:nvSpPr>
            <p:cNvPr id="248" name=""/>
            <p:cNvSpPr/>
            <p:nvPr/>
          </p:nvSpPr>
          <p:spPr>
            <a:xfrm>
              <a:off x="6119640" y="4572000"/>
              <a:ext cx="144720" cy="14436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9640" y="3933720"/>
              <a:ext cx="144720" cy="14472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443640" y="39337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91280" y="3933720"/>
            <a:ext cx="144720" cy="782640"/>
            <a:chOff x="7091280" y="3933720"/>
            <a:chExt cx="144720" cy="782640"/>
          </a:xfrm>
        </p:grpSpPr>
        <p:sp>
          <p:nvSpPr>
            <p:cNvPr id="252" name=""/>
            <p:cNvSpPr/>
            <p:nvPr/>
          </p:nvSpPr>
          <p:spPr>
            <a:xfrm>
              <a:off x="7091280" y="4572000"/>
              <a:ext cx="14472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1280" y="3933720"/>
              <a:ext cx="14472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415280" y="3933720"/>
            <a:ext cx="144360" cy="782640"/>
            <a:chOff x="7415280" y="3933720"/>
            <a:chExt cx="144360" cy="782640"/>
          </a:xfrm>
        </p:grpSpPr>
        <p:sp>
          <p:nvSpPr>
            <p:cNvPr id="255" name=""/>
            <p:cNvSpPr/>
            <p:nvPr/>
          </p:nvSpPr>
          <p:spPr>
            <a:xfrm>
              <a:off x="741528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1528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738920" y="39337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50028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87640" y="2133720"/>
            <a:ext cx="539280" cy="4246200"/>
            <a:chOff x="2987640" y="2133720"/>
            <a:chExt cx="539280" cy="4246200"/>
          </a:xfrm>
        </p:grpSpPr>
        <p:grpSp>
          <p:nvGrpSpPr>
            <p:cNvPr id="260" name=""/>
            <p:cNvGrpSpPr/>
            <p:nvPr/>
          </p:nvGrpSpPr>
          <p:grpSpPr>
            <a:xfrm>
              <a:off x="2987640" y="5805360"/>
              <a:ext cx="539280" cy="574560"/>
              <a:chOff x="2987640" y="5805360"/>
              <a:chExt cx="539280" cy="574560"/>
            </a:xfrm>
          </p:grpSpPr>
          <p:sp>
            <p:nvSpPr>
              <p:cNvPr id="261" name=""/>
              <p:cNvSpPr/>
              <p:nvPr/>
            </p:nvSpPr>
            <p:spPr>
              <a:xfrm>
                <a:off x="2987640" y="580536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3024000" y="580536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987640" y="2133720"/>
              <a:ext cx="539280" cy="574560"/>
              <a:chOff x="2987640" y="2133720"/>
              <a:chExt cx="539280" cy="574560"/>
            </a:xfrm>
          </p:grpSpPr>
          <p:sp>
            <p:nvSpPr>
              <p:cNvPr id="264" name=""/>
              <p:cNvSpPr/>
              <p:nvPr/>
            </p:nvSpPr>
            <p:spPr>
              <a:xfrm>
                <a:off x="2987640" y="213372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024000" y="213372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2195640" y="2781360"/>
            <a:ext cx="2232000" cy="100800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95640" y="4652640"/>
            <a:ext cx="2232000" cy="108108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55960" y="2306520"/>
            <a:ext cx="144360" cy="3816360"/>
            <a:chOff x="2055960" y="2306520"/>
            <a:chExt cx="144360" cy="3816360"/>
          </a:xfrm>
        </p:grpSpPr>
        <p:sp>
          <p:nvSpPr>
            <p:cNvPr id="269" name=""/>
            <p:cNvSpPr/>
            <p:nvPr/>
          </p:nvSpPr>
          <p:spPr>
            <a:xfrm>
              <a:off x="20559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59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78160" y="2306520"/>
            <a:ext cx="144360" cy="3816360"/>
            <a:chOff x="2378160" y="2306520"/>
            <a:chExt cx="144360" cy="3816360"/>
          </a:xfrm>
        </p:grpSpPr>
        <p:sp>
          <p:nvSpPr>
            <p:cNvPr id="272" name=""/>
            <p:cNvSpPr/>
            <p:nvPr/>
          </p:nvSpPr>
          <p:spPr>
            <a:xfrm>
              <a:off x="23781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81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700360" y="2306520"/>
            <a:ext cx="144360" cy="3816360"/>
            <a:chOff x="2700360" y="2306520"/>
            <a:chExt cx="144360" cy="3816360"/>
          </a:xfrm>
        </p:grpSpPr>
        <p:sp>
          <p:nvSpPr>
            <p:cNvPr id="275" name=""/>
            <p:cNvSpPr/>
            <p:nvPr/>
          </p:nvSpPr>
          <p:spPr>
            <a:xfrm>
              <a:off x="27003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03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767640" y="4572000"/>
            <a:ext cx="14436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4160" y="508176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commitment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A1D-F082-464F-8F77-A57CC95E1D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47640" y="162864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9720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ecution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8000" y="3995280"/>
            <a:ext cx="777564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eration = code + pre/post-condi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must satisf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Violation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conflic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But pre/post-conditions often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im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567520" y="1539720"/>
            <a:ext cx="2722680" cy="858960"/>
            <a:chOff x="2567520" y="1539720"/>
            <a:chExt cx="2722680" cy="858960"/>
          </a:xfrm>
        </p:grpSpPr>
        <p:sp>
          <p:nvSpPr>
            <p:cNvPr id="284" name=""/>
            <p:cNvSpPr/>
            <p:nvPr/>
          </p:nvSpPr>
          <p:spPr>
            <a:xfrm>
              <a:off x="2921040" y="161604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7520" y="17002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0400" y="1700280"/>
              <a:ext cx="12798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0"/>
              <a:endCxn id="285" idx="0"/>
            </p:cNvCxnSpPr>
            <p:nvPr/>
          </p:nvCxnSpPr>
          <p:spPr>
            <a:xfrm>
              <a:off x="2921040" y="1539720"/>
              <a:ext cx="15120" cy="16128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  <p:cxnSp>
          <p:nvCxnSpPr>
            <p:cNvPr id="288" name=""/>
            <p:cNvCxnSpPr>
              <a:stCxn id="284" idx="1"/>
              <a:endCxn id="286" idx="0"/>
            </p:cNvCxnSpPr>
            <p:nvPr/>
          </p:nvCxnSpPr>
          <p:spPr>
            <a:xfrm>
              <a:off x="4649760" y="1692360"/>
              <a:ext cx="2160" cy="864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007160" y="2784600"/>
            <a:ext cx="2774160" cy="782280"/>
            <a:chOff x="4007160" y="2784600"/>
            <a:chExt cx="2774160" cy="782280"/>
          </a:xfrm>
        </p:grpSpPr>
        <p:sp>
          <p:nvSpPr>
            <p:cNvPr id="290" name=""/>
            <p:cNvSpPr/>
            <p:nvPr/>
          </p:nvSpPr>
          <p:spPr>
            <a:xfrm>
              <a:off x="4007160" y="28684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61040" y="278460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9640" y="2868480"/>
              <a:ext cx="1381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67880" y="1633680"/>
            <a:ext cx="2739600" cy="782280"/>
            <a:chOff x="6167880" y="1633680"/>
            <a:chExt cx="2739600" cy="782280"/>
          </a:xfrm>
        </p:grpSpPr>
        <p:sp>
          <p:nvSpPr>
            <p:cNvPr id="294" name=""/>
            <p:cNvSpPr/>
            <p:nvPr/>
          </p:nvSpPr>
          <p:spPr>
            <a:xfrm>
              <a:off x="6521400" y="163368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880" y="171756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92760" y="1717560"/>
              <a:ext cx="1314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70200" y="2924280"/>
            <a:ext cx="1222200" cy="647640"/>
            <a:chOff x="5470200" y="2924280"/>
            <a:chExt cx="1222200" cy="647640"/>
          </a:xfrm>
        </p:grpSpPr>
        <p:sp>
          <p:nvSpPr>
            <p:cNvPr id="298" name=""/>
            <p:cNvSpPr/>
            <p:nvPr/>
          </p:nvSpPr>
          <p:spPr>
            <a:xfrm flipH="1">
              <a:off x="5541480" y="2924280"/>
              <a:ext cx="107964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470200" y="2995200"/>
              <a:ext cx="1222200" cy="505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5040" y="1628640"/>
            <a:ext cx="1222560" cy="647640"/>
            <a:chOff x="5945040" y="1628640"/>
            <a:chExt cx="1222560" cy="647640"/>
          </a:xfrm>
        </p:grpSpPr>
        <p:sp>
          <p:nvSpPr>
            <p:cNvPr id="301" name=""/>
            <p:cNvSpPr/>
            <p:nvPr/>
          </p:nvSpPr>
          <p:spPr>
            <a:xfrm flipH="1">
              <a:off x="6016680" y="1628640"/>
              <a:ext cx="1079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945040" y="1699920"/>
              <a:ext cx="1222560" cy="50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860-8D5E-4435-9E8B-F715F43D1C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appens-befor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25360" y="1601640"/>
            <a:ext cx="53182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True constraints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preced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in proces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sends,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receiv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||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||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does not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migh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al order, consistent with causal depend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consistent with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8" idx="5"/>
            <a:endCxn id="311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1" name=""/>
          <p:cNvCxnSpPr>
            <a:stCxn id="313" idx="5"/>
            <a:endCxn id="319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2" name=""/>
          <p:cNvCxnSpPr>
            <a:stCxn id="317" idx="7"/>
            <a:endCxn id="312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sp>
        <p:nvSpPr>
          <p:cNvPr id="323" name=""/>
          <p:cNvSpPr/>
          <p:nvPr/>
        </p:nvSpPr>
        <p:spPr>
          <a:xfrm>
            <a:off x="612720" y="443700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792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5252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040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104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4316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8776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6528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74640" y="437976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712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0988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F8E-A3E6-49FE-8B18-C8B4F2CCEC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58 -0.35069 L 1.11111E-006 -3.7037E-007 E">
                                      <p:cBhvr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2 -0.27083 L 1.94444E-006 -4.07407E-006 E">
                                      <p:cBhvr>
                                        <p:cTn id="236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2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8872 -0.26944 L -3.61111E-006 -4.07407E-006 E">
                                      <p:cBhvr>
                                        <p:cTn id="239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4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302 -0.34791 L 8.33333E-007 7.40741E-006 E">
                                      <p:cBhvr>
                                        <p:cTn id="24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6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269 -0.18449 L 0.00018 -0.00046 E">
                                      <p:cBhvr>
                                        <p:cTn id="245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8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493 -0.18518 L 0.00035 0.00093 E">
                                      <p:cBhvr>
                                        <p:cTn id="24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5556 -0.34768 L -0.00017 0.00093 E">
                                      <p:cBhvr>
                                        <p:cTn id="251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2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3178 -0.26921 L 5E-006 0.00093 E">
                                      <p:cBhvr>
                                        <p:cTn id="254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56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7309 -0.26921 L -0.00035 0.00024 E">
                                      <p:cBhvr>
                                        <p:cTn id="25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826 -0.34907 L 0.00017 0.00024 E">
                                      <p:cBhvr>
                                        <p:cTn id="260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271 -0.18611 L -0.00017 0.00024 E">
                                      <p:cBhvr>
                                        <p:cTn id="26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18611 L -0.00052 0.00024 E">
                                      <p:cBhvr>
                                        <p:cTn id="26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yntactic vs. semantic mechanism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ala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concurrency dete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very 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Vecto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tect concurr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1" idx="5"/>
            <a:endCxn id="344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4" name=""/>
          <p:cNvCxnSpPr>
            <a:stCxn id="346" idx="5"/>
            <a:endCxn id="352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5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6" name=""/>
          <p:cNvCxnSpPr>
            <a:stCxn id="341" idx="6"/>
            <a:endCxn id="343" idx="2"/>
          </p:cNvCxnSpPr>
          <p:nvPr/>
        </p:nvCxnSpPr>
        <p:spPr>
          <a:xfrm>
            <a:off x="1476360" y="206172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2" idx="6"/>
            <a:endCxn id="352" idx="1"/>
          </p:cNvCxnSpPr>
          <p:nvPr/>
        </p:nvCxnSpPr>
        <p:spPr>
          <a:xfrm>
            <a:off x="1476000" y="2607840"/>
            <a:ext cx="1677240" cy="52416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1" idx="5"/>
            <a:endCxn id="346" idx="2"/>
          </p:cNvCxnSpPr>
          <p:nvPr/>
        </p:nvCxnSpPr>
        <p:spPr>
          <a:xfrm>
            <a:off x="1455840" y="2112840"/>
            <a:ext cx="1077120" cy="496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6" idx="6"/>
            <a:endCxn id="348" idx="2"/>
          </p:cNvCxnSpPr>
          <p:nvPr/>
        </p:nvCxnSpPr>
        <p:spPr>
          <a:xfrm>
            <a:off x="2676240" y="2607840"/>
            <a:ext cx="45612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9" idx="6"/>
            <a:endCxn id="350" idx="2"/>
          </p:cNvCxnSpPr>
          <p:nvPr/>
        </p:nvCxnSpPr>
        <p:spPr>
          <a:xfrm>
            <a:off x="1476360" y="318420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612720" y="444816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7968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84400" y="4392720"/>
            <a:ext cx="14472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4804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440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46040" y="43909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604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51120" y="43909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7804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1132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19480" y="439272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14400" y="439092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67D-A56A-4B1A-B343-B787077488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28 -0.27222 L 1.38889E-006 -4.44444E-006 E">
                                      <p:cBhvr>
                                        <p:cTn id="286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29 -0.18588 L 0.00017 -0.00046 E">
                                      <p:cBhvr>
                                        <p:cTn id="29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-0.18796 L 0.00035 0.00093 E">
                                      <p:cBhvr>
                                        <p:cTn id="292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1 -0.35023 L -4.72222E-006 -4.44444E-006 E">
                                      <p:cBhvr>
                                        <p:cTn id="294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1 -0.35023 L 4.44444E-006 -4.44444E-006 E">
                                      <p:cBhvr>
                                        <p:cTn id="298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17 -0.1875 L -0.00052 0.00024 E">
                                      <p:cBhvr>
                                        <p:cTn id="302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35023 L -8.33333E-007 -4.44444E-006 E">
                                      <p:cBhvr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72 -0.35023 L 0.00017 0.00024 E">
                                      <p:cBhvr>
                                        <p:cTn id="308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27199 L 3.88889E-006 0.00093 E">
                                      <p:cBhvr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2706 L -0.00035 0.00024 E">
                                      <p:cBhvr>
                                        <p:cTn id="312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7 -0.27292 L -1.38889E-006 4.07407E-006 E">
                                      <p:cBhvr>
                                        <p:cTn id="3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-0.18959 L -0.00018 0.00023 E">
                                      <p:cBhvr>
                                        <p:cTn id="318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onstraints between oper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t all schedules are acceptab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s, e.g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x &gt; 50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respect causal order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-or-nothing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 execution path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ing operations exclude each oth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E9C-4D3C-4C6F-9A48-EB8F9C46E9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7928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1. Résumé des épisodes précédents…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Primitive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68360" y="1814400"/>
            <a:ext cx="73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 =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predicate (action, schedul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eclarative (“static binary”)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MustHave: a </a:t>
            </a:r>
            <a:r>
              <a:rPr b="0" lang="en-US" sz="2800" spc="-1" strike="noStrike">
                <a:solidFill>
                  <a:srgbClr val="2a5554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contiguous nor in order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rder: a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,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a before b in 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both nor contiguous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erative (dynamic): a.preCondition (Stat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C68-6275-4F0B-9B63-C37851832E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28000" y="1692360"/>
            <a:ext cx="684000" cy="154764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2197080"/>
            <a:ext cx="1692000" cy="503280"/>
          </a:xfrm>
          <a:prstGeom prst="rect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log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2448000"/>
            <a:ext cx="69487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8000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4360" y="230508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764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8472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720" y="1908000"/>
            <a:ext cx="289080" cy="28764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5" idx="4"/>
            <a:endCxn id="386" idx="4"/>
          </p:cNvCxnSpPr>
          <p:nvPr/>
        </p:nvCxnSpPr>
        <p:spPr>
          <a:xfrm flipH="1" rot="16200000">
            <a:off x="2878920" y="1944360"/>
            <a:ext cx="2160" cy="1297800"/>
          </a:xfrm>
          <a:prstGeom prst="bentConnector3">
            <a:avLst>
              <a:gd name="adj1" fmla="val 30800000"/>
            </a:avLst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389" name=""/>
          <p:cNvSpPr/>
          <p:nvPr/>
        </p:nvSpPr>
        <p:spPr>
          <a:xfrm>
            <a:off x="7308720" y="266400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3680" y="1747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arcel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25440" y="1440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redecessor-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successo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78440" y="1279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alternatives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90160" y="3583080"/>
            <a:ext cx="7953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xpress user inten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decessor/successor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b uses effect of a; “a causes b”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arcel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s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73D-CDE2-4EBB-A235-0A564DB749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159000" y="3259080"/>
            <a:ext cx="684360" cy="19702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760000">
            <a:off x="2466360" y="3015360"/>
            <a:ext cx="684000" cy="2448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Object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00720" y="1711440"/>
            <a:ext cx="46432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hared data type advertis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emantic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tually exclus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est order (e.g. bank: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redits before debits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nly between concurrent 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so: dynamic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3583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4008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772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44800" y="3440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6080" y="4834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4008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772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44800" y="4691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0" idx="4"/>
            <a:endCxn id="404" idx="0"/>
          </p:cNvCxnSpPr>
          <p:nvPr/>
        </p:nvCxnSpPr>
        <p:spPr>
          <a:xfrm>
            <a:off x="891720" y="3727080"/>
            <a:ext cx="1080" cy="96444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7" name=""/>
          <p:cNvCxnSpPr>
            <a:stCxn id="400" idx="4"/>
            <a:endCxn id="405" idx="1"/>
          </p:cNvCxnSpPr>
          <p:nvPr/>
        </p:nvCxnSpPr>
        <p:spPr>
          <a:xfrm>
            <a:off x="891720" y="3727440"/>
            <a:ext cx="1196280" cy="100728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8" name=""/>
          <p:cNvCxnSpPr>
            <a:stCxn id="401" idx="3"/>
            <a:endCxn id="404" idx="7"/>
          </p:cNvCxnSpPr>
          <p:nvPr/>
        </p:nvCxnSpPr>
        <p:spPr>
          <a:xfrm flipH="1">
            <a:off x="992880" y="3684240"/>
            <a:ext cx="1094760" cy="1050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409" name=""/>
          <p:cNvSpPr/>
          <p:nvPr/>
        </p:nvSpPr>
        <p:spPr>
          <a:xfrm>
            <a:off x="340200" y="2873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commut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4320" y="256536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33280" y="24922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mutuall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ED8-AECB-410C-88BF-6FA58B81CB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concurrency control &amp;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wo actions are either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dependence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utat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any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with favourabl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non-conflicting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and conflict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or exclude one, the other, or both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971-035E-4B55-9A03-946692B4D9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775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sight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: choice of which action to exclud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aximise val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2A6-BEDD-43BF-925E-701BEA0EB3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8" idx="4"/>
            <a:endCxn id="419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21" name=""/>
          <p:cNvSpPr/>
          <p:nvPr/>
        </p:nvSpPr>
        <p:spPr>
          <a:xfrm>
            <a:off x="173520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6532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9724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2736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6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00000" y="3415680"/>
            <a:ext cx="646200" cy="587520"/>
            <a:chOff x="900000" y="3415680"/>
            <a:chExt cx="646200" cy="587520"/>
          </a:xfrm>
        </p:grpSpPr>
        <p:sp>
          <p:nvSpPr>
            <p:cNvPr id="428" name=""/>
            <p:cNvSpPr/>
            <p:nvPr/>
          </p:nvSpPr>
          <p:spPr>
            <a:xfrm>
              <a:off x="900000" y="367956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16000" y="364500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31640" y="39319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74560" y="3645000"/>
              <a:ext cx="7164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432" name=""/>
            <p:cNvCxnSpPr>
              <a:stCxn id="429" idx="5"/>
            </p:cNvCxnSpPr>
            <p:nvPr/>
          </p:nvCxnSpPr>
          <p:spPr>
            <a:xfrm>
              <a:off x="1176120" y="3704760"/>
              <a:ext cx="155880" cy="22716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31" idx="1"/>
              <a:endCxn id="428" idx="0"/>
            </p:cNvCxnSpPr>
            <p:nvPr/>
          </p:nvCxnSpPr>
          <p:spPr>
            <a:xfrm rot="5400000">
              <a:off x="1198800" y="3391920"/>
              <a:ext cx="24120" cy="550080"/>
            </a:xfrm>
            <a:prstGeom prst="curvedConnector5">
              <a:avLst>
                <a:gd name="adj1" fmla="val -1006060"/>
                <a:gd name="adj2" fmla="val 49967"/>
                <a:gd name="adj3" fmla="val -100606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34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4" idx="4"/>
            <a:endCxn id="435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37" name=""/>
          <p:cNvSpPr/>
          <p:nvPr/>
        </p:nvSpPr>
        <p:spPr>
          <a:xfrm>
            <a:off x="173520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532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724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2736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dfd6e6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2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dfd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4" idx="4"/>
            <a:endCxn id="445" idx="2"/>
          </p:cNvCxnSpPr>
          <p:nvPr/>
        </p:nvCxnSpPr>
        <p:spPr>
          <a:xfrm>
            <a:off x="5219640" y="46526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6" name=""/>
          <p:cNvCxnSpPr>
            <a:stCxn id="447" idx="4"/>
            <a:endCxn id="448" idx="2"/>
          </p:cNvCxnSpPr>
          <p:nvPr/>
        </p:nvCxnSpPr>
        <p:spPr>
          <a:xfrm>
            <a:off x="5219640" y="65624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9" name=""/>
          <p:cNvCxnSpPr>
            <a:stCxn id="450" idx="4"/>
            <a:endCxn id="451" idx="2"/>
          </p:cNvCxnSpPr>
          <p:nvPr/>
        </p:nvCxnSpPr>
        <p:spPr>
          <a:xfrm>
            <a:off x="5219640" y="210456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52" name=""/>
          <p:cNvCxnSpPr>
            <a:stCxn id="453" idx="4"/>
            <a:endCxn id="454" idx="2"/>
          </p:cNvCxnSpPr>
          <p:nvPr/>
        </p:nvCxnSpPr>
        <p:spPr>
          <a:xfrm>
            <a:off x="5219640" y="274140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55" name=""/>
          <p:cNvGrpSpPr/>
          <p:nvPr/>
        </p:nvGrpSpPr>
        <p:grpSpPr>
          <a:xfrm>
            <a:off x="6119640" y="2068560"/>
            <a:ext cx="71640" cy="4529160"/>
            <a:chOff x="6119640" y="2068560"/>
            <a:chExt cx="71640" cy="4529160"/>
          </a:xfrm>
        </p:grpSpPr>
        <p:sp>
          <p:nvSpPr>
            <p:cNvPr id="456" name=""/>
            <p:cNvSpPr/>
            <p:nvPr/>
          </p:nvSpPr>
          <p:spPr>
            <a:xfrm>
              <a:off x="6119640" y="46162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19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19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738920" y="2068560"/>
            <a:ext cx="71640" cy="708120"/>
            <a:chOff x="7738920" y="2068560"/>
            <a:chExt cx="71640" cy="708120"/>
          </a:xfrm>
        </p:grpSpPr>
        <p:sp>
          <p:nvSpPr>
            <p:cNvPr id="461" name=""/>
            <p:cNvSpPr/>
            <p:nvPr/>
          </p:nvSpPr>
          <p:spPr>
            <a:xfrm>
              <a:off x="7738920" y="20685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892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859280" y="1924200"/>
            <a:ext cx="360360" cy="4817880"/>
            <a:chOff x="4859280" y="1924200"/>
            <a:chExt cx="360360" cy="4817880"/>
          </a:xfrm>
        </p:grpSpPr>
        <p:sp>
          <p:nvSpPr>
            <p:cNvPr id="444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592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92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592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92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8101080" y="1924200"/>
            <a:ext cx="360360" cy="4817880"/>
            <a:chOff x="8101080" y="1924200"/>
            <a:chExt cx="360360" cy="4817880"/>
          </a:xfrm>
        </p:grpSpPr>
        <p:sp>
          <p:nvSpPr>
            <p:cNvPr id="445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010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10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010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010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467" name=""/>
          <p:cNvCxnSpPr>
            <a:stCxn id="464" idx="4"/>
            <a:endCxn id="466" idx="2"/>
          </p:cNvCxnSpPr>
          <p:nvPr/>
        </p:nvCxnSpPr>
        <p:spPr>
          <a:xfrm>
            <a:off x="5219640" y="337788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68" name=""/>
          <p:cNvGrpSpPr/>
          <p:nvPr/>
        </p:nvGrpSpPr>
        <p:grpSpPr>
          <a:xfrm>
            <a:off x="5472000" y="2068560"/>
            <a:ext cx="71640" cy="4529160"/>
            <a:chOff x="5472000" y="2068560"/>
            <a:chExt cx="71640" cy="4529160"/>
          </a:xfrm>
        </p:grpSpPr>
        <p:sp>
          <p:nvSpPr>
            <p:cNvPr id="469" name=""/>
            <p:cNvSpPr/>
            <p:nvPr/>
          </p:nvSpPr>
          <p:spPr>
            <a:xfrm>
              <a:off x="5472000" y="65260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200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200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72000" y="334152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796000" y="2068560"/>
            <a:ext cx="71280" cy="4529160"/>
            <a:chOff x="5796000" y="2068560"/>
            <a:chExt cx="71280" cy="4529160"/>
          </a:xfrm>
        </p:grpSpPr>
        <p:sp>
          <p:nvSpPr>
            <p:cNvPr id="474" name=""/>
            <p:cNvSpPr/>
            <p:nvPr/>
          </p:nvSpPr>
          <p:spPr>
            <a:xfrm>
              <a:off x="579600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9600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96000" y="206856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600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600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443640" y="2068560"/>
            <a:ext cx="71640" cy="4529160"/>
            <a:chOff x="6443640" y="2068560"/>
            <a:chExt cx="71640" cy="4529160"/>
          </a:xfrm>
        </p:grpSpPr>
        <p:sp>
          <p:nvSpPr>
            <p:cNvPr id="480" name=""/>
            <p:cNvSpPr/>
            <p:nvPr/>
          </p:nvSpPr>
          <p:spPr>
            <a:xfrm>
              <a:off x="6443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43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3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364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767640" y="2068560"/>
            <a:ext cx="71280" cy="4529160"/>
            <a:chOff x="6767640" y="2068560"/>
            <a:chExt cx="71280" cy="4529160"/>
          </a:xfrm>
        </p:grpSpPr>
        <p:sp>
          <p:nvSpPr>
            <p:cNvPr id="485" name=""/>
            <p:cNvSpPr/>
            <p:nvPr/>
          </p:nvSpPr>
          <p:spPr>
            <a:xfrm>
              <a:off x="676764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7640" y="652608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764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7640" y="270504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67640" y="334152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091280" y="2705040"/>
            <a:ext cx="71640" cy="3892680"/>
            <a:chOff x="7091280" y="2705040"/>
            <a:chExt cx="71640" cy="3892680"/>
          </a:xfrm>
        </p:grpSpPr>
        <p:sp>
          <p:nvSpPr>
            <p:cNvPr id="491" name=""/>
            <p:cNvSpPr/>
            <p:nvPr/>
          </p:nvSpPr>
          <p:spPr>
            <a:xfrm>
              <a:off x="7091280" y="46162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128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9128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9128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415280" y="2068560"/>
            <a:ext cx="71280" cy="4529160"/>
            <a:chOff x="7415280" y="2068560"/>
            <a:chExt cx="71280" cy="4529160"/>
          </a:xfrm>
        </p:grpSpPr>
        <p:sp>
          <p:nvSpPr>
            <p:cNvPr id="496" name=""/>
            <p:cNvSpPr/>
            <p:nvPr/>
          </p:nvSpPr>
          <p:spPr>
            <a:xfrm>
              <a:off x="741528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1528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1528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528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528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195640" y="3429000"/>
            <a:ext cx="503280" cy="502920"/>
            <a:chOff x="2195640" y="3429000"/>
            <a:chExt cx="503280" cy="502920"/>
          </a:xfrm>
        </p:grpSpPr>
        <p:sp>
          <p:nvSpPr>
            <p:cNvPr id="502" name=""/>
            <p:cNvSpPr/>
            <p:nvPr/>
          </p:nvSpPr>
          <p:spPr>
            <a:xfrm>
              <a:off x="2195640" y="342900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000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27280" y="357156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2728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1"/>
              <a:endCxn id="502" idx="4"/>
            </p:cNvCxnSpPr>
            <p:nvPr/>
          </p:nvCxnSpPr>
          <p:spPr>
            <a:xfrm flipV="1" rot="16200000">
              <a:off x="2105280" y="3625920"/>
              <a:ext cx="372240" cy="119880"/>
            </a:xfrm>
            <a:prstGeom prst="curvedConnector5">
              <a:avLst>
                <a:gd name="adj1" fmla="val 51210"/>
                <a:gd name="adj2" fmla="val 50000"/>
                <a:gd name="adj3" fmla="val 5121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3" idx="6"/>
              <a:endCxn id="505" idx="2"/>
            </p:cNvCxnSpPr>
            <p:nvPr/>
          </p:nvCxnSpPr>
          <p:spPr>
            <a:xfrm>
              <a:off x="2411280" y="3896640"/>
              <a:ext cx="2163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504" idx="4"/>
              <a:endCxn id="503" idx="7"/>
            </p:cNvCxnSpPr>
            <p:nvPr/>
          </p:nvCxnSpPr>
          <p:spPr>
            <a:xfrm flipH="1">
              <a:off x="2400120" y="3642840"/>
              <a:ext cx="264240" cy="22932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09" name=""/>
          <p:cNvGrpSpPr/>
          <p:nvPr/>
        </p:nvGrpSpPr>
        <p:grpSpPr>
          <a:xfrm>
            <a:off x="936360" y="3200040"/>
            <a:ext cx="1475280" cy="757440"/>
            <a:chOff x="936360" y="3200040"/>
            <a:chExt cx="1475280" cy="757440"/>
          </a:xfrm>
        </p:grpSpPr>
        <p:cxnSp>
          <p:nvCxnSpPr>
            <p:cNvPr id="510" name=""/>
            <p:cNvCxnSpPr/>
            <p:nvPr/>
          </p:nvCxnSpPr>
          <p:spPr>
            <a:xfrm flipV="1">
              <a:off x="1403280" y="3885840"/>
              <a:ext cx="1008720" cy="72000"/>
            </a:xfrm>
            <a:prstGeom prst="straightConnector1">
              <a:avLst/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2" idx="7"/>
              <a:endCxn id="428" idx="0"/>
            </p:cNvCxnSpPr>
            <p:nvPr/>
          </p:nvCxnSpPr>
          <p:spPr>
            <a:xfrm rot="5400000">
              <a:off x="1475640" y="2900520"/>
              <a:ext cx="240480" cy="1319760"/>
            </a:xfrm>
            <a:prstGeom prst="curvedConnector5">
              <a:avLst>
                <a:gd name="adj1" fmla="val -100000"/>
                <a:gd name="adj2" fmla="val 49986"/>
                <a:gd name="adj3" fmla="val -100000"/>
              </a:avLst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2340000" y="4292640"/>
            <a:ext cx="1616400" cy="1512720"/>
            <a:chOff x="2340000" y="4292640"/>
            <a:chExt cx="1616400" cy="1512720"/>
          </a:xfrm>
        </p:grpSpPr>
        <p:sp>
          <p:nvSpPr>
            <p:cNvPr id="513" name=""/>
            <p:cNvSpPr/>
            <p:nvPr/>
          </p:nvSpPr>
          <p:spPr>
            <a:xfrm flipV="1">
              <a:off x="2340000" y="4292640"/>
              <a:ext cx="216000" cy="151272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4920" y="4697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18920" y="2565360"/>
            <a:ext cx="1708920" cy="503280"/>
            <a:chOff x="1618920" y="2565360"/>
            <a:chExt cx="1708920" cy="503280"/>
          </a:xfrm>
        </p:grpSpPr>
        <p:sp>
          <p:nvSpPr>
            <p:cNvPr id="516" name=""/>
            <p:cNvSpPr/>
            <p:nvPr/>
          </p:nvSpPr>
          <p:spPr>
            <a:xfrm flipH="1">
              <a:off x="1618920" y="2565360"/>
              <a:ext cx="431640" cy="50328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36360" y="2681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987640" y="3427560"/>
            <a:ext cx="1584360" cy="361440"/>
            <a:chOff x="2987640" y="3427560"/>
            <a:chExt cx="1584360" cy="361440"/>
          </a:xfrm>
        </p:grpSpPr>
        <p:sp>
          <p:nvSpPr>
            <p:cNvPr id="519" name=""/>
            <p:cNvSpPr/>
            <p:nvPr/>
          </p:nvSpPr>
          <p:spPr>
            <a:xfrm flipV="1">
              <a:off x="2987640" y="3644640"/>
              <a:ext cx="1584360" cy="14436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55880" y="34275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7164360" y="155736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450920" y="2349360"/>
            <a:ext cx="289080" cy="35892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20" y="27892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859280" y="3500280"/>
            <a:ext cx="3602160" cy="2605320"/>
            <a:chOff x="4859280" y="3500280"/>
            <a:chExt cx="3602160" cy="2605320"/>
          </a:xfrm>
        </p:grpSpPr>
        <p:sp>
          <p:nvSpPr>
            <p:cNvPr id="525" name=""/>
            <p:cNvSpPr/>
            <p:nvPr/>
          </p:nvSpPr>
          <p:spPr>
            <a:xfrm>
              <a:off x="48592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010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5" idx="4"/>
              <a:endCxn id="526" idx="2"/>
            </p:cNvCxnSpPr>
            <p:nvPr/>
          </p:nvCxnSpPr>
          <p:spPr>
            <a:xfrm>
              <a:off x="5219640" y="528912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28" name=""/>
            <p:cNvSpPr/>
            <p:nvPr/>
          </p:nvSpPr>
          <p:spPr>
            <a:xfrm>
              <a:off x="547200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9600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9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43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67640" y="525312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9128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1528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3892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592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010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38" name=""/>
            <p:cNvCxnSpPr>
              <a:stCxn id="536" idx="4"/>
              <a:endCxn id="537" idx="2"/>
            </p:cNvCxnSpPr>
            <p:nvPr/>
          </p:nvCxnSpPr>
          <p:spPr>
            <a:xfrm>
              <a:off x="5219640" y="592560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39" name=""/>
            <p:cNvSpPr/>
            <p:nvPr/>
          </p:nvSpPr>
          <p:spPr>
            <a:xfrm>
              <a:off x="547200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964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5280" y="588960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3892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45" name=""/>
            <p:cNvCxnSpPr>
              <a:stCxn id="543" idx="4"/>
              <a:endCxn id="544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547200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600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43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9128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1528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892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67280" y="350028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487640" y="4761000"/>
              <a:ext cx="29196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01080" y="544500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157440" y="122076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a5554"/>
                </a:solidFill>
                <a:latin typeface="Arial"/>
              </a:rPr>
              <a:t>dynamic 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987640" y="2133720"/>
            <a:ext cx="539280" cy="574560"/>
            <a:chOff x="2987640" y="2133720"/>
            <a:chExt cx="539280" cy="574560"/>
          </a:xfrm>
        </p:grpSpPr>
        <p:sp>
          <p:nvSpPr>
            <p:cNvPr id="558" name=""/>
            <p:cNvSpPr/>
            <p:nvPr/>
          </p:nvSpPr>
          <p:spPr>
            <a:xfrm>
              <a:off x="2987640" y="213372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24000" y="213372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987640" y="5805360"/>
            <a:ext cx="539280" cy="574560"/>
            <a:chOff x="2987640" y="5805360"/>
            <a:chExt cx="539280" cy="574560"/>
          </a:xfrm>
        </p:grpSpPr>
        <p:sp>
          <p:nvSpPr>
            <p:cNvPr id="561" name=""/>
            <p:cNvSpPr/>
            <p:nvPr/>
          </p:nvSpPr>
          <p:spPr>
            <a:xfrm>
              <a:off x="2987640" y="580536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024000" y="580536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E55-FC07-4F09-813A-0203985540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earch vs. syntactic order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368360" y="1989000"/>
          <a:ext cx="7344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9000"/>
                    <a:ext cx="7344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7164360" y="5589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08B-9657-4FBD-B170-10E75CCF79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formance of IceCube heuristic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533600" y="1533600"/>
          <a:ext cx="766440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533600"/>
                    <a:ext cx="766440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F66-E3DB-4754-A90D-430D018398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3. Cohérence à terme </a:t>
            </a:r>
            <a:r>
              <a:rPr b="0" i="1" lang="en-GB" sz="5400" spc="-1" strike="noStrike">
                <a:solidFill>
                  <a:srgbClr val="808080"/>
                </a:solidFill>
                <a:latin typeface="Arial"/>
              </a:rPr>
              <a:t>(Eventual consistency)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133360" y="36892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user inte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data invaria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plicas consistent with each oth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ach site receives all 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 that satisfies constrain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stable prefix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resul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DB8-5CB7-4D5A-BB6E-D696DE80F3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Grandes étap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000" y="1938240"/>
            <a:ext cx="7775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: Ingénieur ENSEEIHT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--1980: doctorant LAA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0--1982: Post-doc MIT Lab. for Computer Scienc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2--1985: Chargé de Recherches CMIRH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84--1985: INRIA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6--1999: Directeur de recherche, responsable scientifique INRIA projet SOR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3--1994: Cornell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7: Jini, Sun Research Labs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99+: Senior Researcher, MSR Cambridg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93F-C80E-4340-855B-026737F708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68360" y="1571760"/>
            <a:ext cx="66708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er-to-peer, indefinite tentative update + advisory reconciliation OK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But stability needed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Users, external world depend on 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Garbage collect multilo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Only stable actions relevant for consist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table: eventually decisions not chang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: definitely included in all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borted: definitely exclud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CD8-5163-4A31-A738-7DF90E664A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: intuitiv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68000" y="2139840"/>
            <a:ext cx="75963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iveness: sites receive all operation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multicas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Quickl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afety: sites compute the same valu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tability: actions eventually not und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/ abor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254-3985-4757-8426-81040167C4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ound schedul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8360" y="2122560"/>
            <a:ext cx="73440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ound =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atisfies constraints for all its ac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i="1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5f9759"/>
                </a:solidFill>
                <a:latin typeface="Wingdings 3"/>
                <a:ea typeface="Wingdings 3"/>
              </a:rPr>
              <a:t>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nsistent with Order (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cyclic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(a,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)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before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in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68A-F414-4A3D-A9E5-667DB53A36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local soundnes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8000" y="1495440"/>
            <a:ext cx="777564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abor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lso abort actions that MustHav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commit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lso abort uncommitted actions that are ‘Order’ed befor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14E-20DF-4D91-B7D8-D051996DFD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chedule equivalenc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quivalenc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, t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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rdering is irrelevant!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 reduces to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ame committed operations everywhe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 committed operations in every schedu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s are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793-377C-4C04-8197-21C9141195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101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ction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,k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iv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7A7-14B1-418A-8004-7D68A5FE22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Global safety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ound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 [</a:t>
            </a:r>
            <a:r>
              <a:rPr b="0" lang="en-GB" sz="6000" spc="-1" strike="noStrike">
                <a:solidFill>
                  <a:srgbClr val="2a5554"/>
                </a:solidFill>
                <a:latin typeface="Symbol"/>
                <a:ea typeface="Symbol"/>
              </a:rPr>
              <a:t>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time, 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sites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(t)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 </a:t>
            </a:r>
            <a:r>
              <a:rPr b="0" lang="en-GB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Non-conflicting: Acyclic in Order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ssfu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31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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,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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: 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Very strong!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s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only if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on’t commit conflicting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ill succeed everywhere, anytim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409-9B01-46E9-94B1-E4B9A0AEEE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global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68000" y="1872720"/>
            <a:ext cx="7224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knowledge: deterministic abort rule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WR 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Unilateral abort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VS, Holliday 2000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rimary site decid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Bayou, CV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nsus before decid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Deno, Holliday 2000-2002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0BF-5E56-45EB-B3FB-D32E738FC7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with TWR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objec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writes (no MustHave nor Order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l sites take same decis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Given two writes to same object, abort the earli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hether concurrent or no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rite stable when seen by all si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committed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no MustHave (no transactions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235-E386-4F99-8D38-04DBD9A0D4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in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atabas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joi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ndependent: no multi-DB transa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1 primary / databas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transactions, time ord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Only 1 site decides abou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the primary for the database tha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upda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whole transaction commits or abor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BFF-7C2C-4783-A50B-E69B2AFDD5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Thèses encadré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8360" y="1652400"/>
            <a:ext cx="7344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ek Loong Chong. U. de Cambridge, 200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Nicolas Richer.  Paris 6, 200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Fabrice le Fessant (co-encadrement). Polytechnique, 200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Xavier Blondel.   CNAM, 2000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Aline Baggio. Paris 6, 199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Georges Brun-Cottan. Paris 6, 1998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Julien Maisonneuve,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Paulo Ferreira.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Hervé Soulard. Paris 6, 1995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vid Plainfossé. Paris 6, 1994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niel Edelson. UC Santa Cruz, 199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ichel Ruffin. Paris 6, 199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von Gourhant. Paris 6, 199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Sabine Habert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esaac Mounchili Makpangou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110-0D9D-45E3-8B86-E844A0A67C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olliday’s pre-commit protoco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68360" y="1787040"/>
            <a:ext cx="73440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lti-object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appens-befor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 transactions commit locall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-Write transactions: consensus to commi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vert locks to inten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-commit, vot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if quorum ‘yes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 if anti-quorum ‘no’ or conflict with committ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702-3F87-4192-9DDA-BB3F4AF70C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Trade-off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8000" y="1496880"/>
            <a:ext cx="77756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 perfect solu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mmon knowledg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yntactic: fast, inflexi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s, doesn’t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tion + primar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MustHave across partition boundari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ensu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mpossibility of consensus in asynchronous systems with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369-536D-4781-9B83-CEB888E319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4. Conclusion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assage à l’échelle ?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plication en écritur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pessimiste = attend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optimiste = spécul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Progrès malgré panne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Non transparen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Limité par le commi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romis possibles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titionn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iminuer la granular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limiter nombre d’écrivai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7BC-D673-4AEF-9957-47AC704002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spectiv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mportance grandissante du partag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Lecture et écritu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merce électron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ertinence des techniqu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andataires spécifiques encapsulant l’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ava, .Net : ramasse-miettes répart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Réplication: centres Web, B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Travail déconnec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9A4-5EDD-433E-92BE-283FB85288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FB6-ADC0-4D71-9411-77323C1C24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ublic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956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urveys, en cour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200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Springer 2000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LDI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ECOOP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WMM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WDAG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38512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IEEE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OSDI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1992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RDS 199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ystems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SOSP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8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3A5-1A90-47B4-8FBC-A9E885DD5761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808080"/>
                </a:solidFill>
                <a:latin typeface="Arial"/>
              </a:rPr>
              <a:t>Le partage de l’information à grande échelle</a:t>
            </a:r>
            <a:endParaRPr b="0" lang="en-US" sz="4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lexité des systèmes répartis : parallélisme, pannes, événement, lat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Objets: sémantique non prédéfini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outils commu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aspects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promi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aiter les problèmes de fond, impact sur le long term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208-70BB-4DF3-85BE-BA7BD0561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604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Objets Fragmentés</a:t>
            </a:r>
            <a:br>
              <a:rPr sz="4200"/>
            </a:b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81-199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41600" y="1761840"/>
            <a:ext cx="4802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tructura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ntrôle de la transpa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Mandat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gramma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pécifique au cli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SO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Vo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xy We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in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ges Web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259000"/>
            <a:ext cx="1398600" cy="157320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1560" y="4846680"/>
            <a:ext cx="1192320" cy="129852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880" y="2433600"/>
            <a:ext cx="511200" cy="49860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4640" y="5254560"/>
            <a:ext cx="511200" cy="49860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1680" y="3187800"/>
            <a:ext cx="511200" cy="49824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5"/>
            <a:endCxn id="118" idx="1"/>
          </p:cNvCxnSpPr>
          <p:nvPr/>
        </p:nvCxnSpPr>
        <p:spPr>
          <a:xfrm>
            <a:off x="1276200" y="2859120"/>
            <a:ext cx="270720" cy="4024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8" idx="5"/>
            <a:endCxn id="117" idx="1"/>
          </p:cNvCxnSpPr>
          <p:nvPr/>
        </p:nvCxnSpPr>
        <p:spPr>
          <a:xfrm>
            <a:off x="1907640" y="3613320"/>
            <a:ext cx="1451880" cy="1715040"/>
          </a:xfrm>
          <a:prstGeom prst="straightConnector1">
            <a:avLst/>
          </a:prstGeom>
          <a:ln w="38160">
            <a:solidFill>
              <a:srgbClr val="2a5554"/>
            </a:solidFill>
            <a:prstDash val="dash"/>
            <a:miter/>
            <a:headEnd len="med" type="oval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rot="2909400">
            <a:off x="856440" y="3960000"/>
            <a:ext cx="3643200" cy="1114560"/>
          </a:xfrm>
          <a:prstGeom prst="ellipse">
            <a:avLst/>
          </a:prstGeom>
          <a:gradFill rotWithShape="0">
            <a:gsLst>
              <a:gs pos="0">
                <a:srgbClr val="5f9759">
                  <a:alpha val="32156"/>
                </a:srgbClr>
              </a:gs>
              <a:gs pos="100000">
                <a:srgbClr val="689c62">
                  <a:alpha val="33333"/>
                </a:srgbClr>
              </a:gs>
            </a:gsLst>
            <a:lin ang="2490000"/>
          </a:gra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FA3-0964-4F9A-B911-299E931966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35 0.27244 L 3.05556E-006 -3.80204E-006 E">
                                      <p:cBhvr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Chaînes de Paires Souche-Scion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0—1999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7560" y="1988640"/>
            <a:ext cx="421956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Automatiser la gestion d’objets en réparti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férence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M locaux + coordination </a:t>
            </a:r>
            <a:r>
              <a:rPr b="0" i="1" lang="fr-FR" sz="2800" spc="-1" strike="noStrike">
                <a:solidFill>
                  <a:srgbClr val="2a5554"/>
                </a:solidFill>
                <a:latin typeface="Arial"/>
              </a:rPr>
              <a:t>asynchr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implicité + efficacit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olérant les pannes détectab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Dérivation formel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057400"/>
            <a:ext cx="1320840" cy="1308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4165560"/>
            <a:ext cx="1485720" cy="1320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62240" y="1879560"/>
            <a:ext cx="1371600" cy="129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7160" y="2044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0680" y="261612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5"/>
            <a:endCxn id="128" idx="1"/>
          </p:cNvCxnSpPr>
          <p:nvPr/>
        </p:nvCxnSpPr>
        <p:spPr>
          <a:xfrm>
            <a:off x="3704760" y="2282400"/>
            <a:ext cx="337320" cy="3754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3230280" y="2769840"/>
            <a:ext cx="486000" cy="340200"/>
            <a:chOff x="3230280" y="2769840"/>
            <a:chExt cx="486000" cy="340200"/>
          </a:xfrm>
        </p:grpSpPr>
        <p:sp>
          <p:nvSpPr>
            <p:cNvPr id="131" name=""/>
            <p:cNvSpPr/>
            <p:nvPr/>
          </p:nvSpPr>
          <p:spPr>
            <a:xfrm>
              <a:off x="3230640" y="2770200"/>
              <a:ext cx="48564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0"/>
              <a:endCxn id="131" idx="1"/>
            </p:cNvCxnSpPr>
            <p:nvPr/>
          </p:nvCxnSpPr>
          <p:spPr>
            <a:xfrm>
              <a:off x="3230280" y="2769840"/>
              <a:ext cx="48636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cxnSp>
        <p:nvCxnSpPr>
          <p:cNvPr id="133" name=""/>
          <p:cNvCxnSpPr>
            <a:stCxn id="131" idx="2"/>
            <a:endCxn id="134" idx="0"/>
          </p:cNvCxnSpPr>
          <p:nvPr/>
        </p:nvCxnSpPr>
        <p:spPr>
          <a:xfrm flipH="1" flipV="1">
            <a:off x="3241440" y="2648880"/>
            <a:ext cx="235440" cy="322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370160" y="2305080"/>
            <a:ext cx="409320" cy="371520"/>
          </a:xfrm>
          <a:custGeom>
            <a:avLst/>
            <a:gdLst>
              <a:gd name="textAreaLeft" fmla="*/ 0 w 409320"/>
              <a:gd name="textAreaRight" fmla="*/ 409680 w 4093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1"/>
            <a:endCxn id="128" idx="2"/>
          </p:cNvCxnSpPr>
          <p:nvPr/>
        </p:nvCxnSpPr>
        <p:spPr>
          <a:xfrm>
            <a:off x="3105000" y="2464920"/>
            <a:ext cx="896400" cy="29124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881440" y="2278080"/>
            <a:ext cx="365040" cy="37296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0"/>
            <a:endCxn id="134" idx="2"/>
          </p:cNvCxnSpPr>
          <p:nvPr/>
        </p:nvCxnSpPr>
        <p:spPr>
          <a:xfrm flipV="1">
            <a:off x="1779480" y="2464560"/>
            <a:ext cx="1326240" cy="262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28680" y="219564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6"/>
            <a:endCxn id="135" idx="1"/>
          </p:cNvCxnSpPr>
          <p:nvPr/>
        </p:nvCxnSpPr>
        <p:spPr>
          <a:xfrm>
            <a:off x="607680" y="2335320"/>
            <a:ext cx="762840" cy="155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endCxn id="134" idx="3"/>
          </p:cNvCxnSpPr>
          <p:nvPr/>
        </p:nvCxnSpPr>
        <p:spPr>
          <a:xfrm flipV="1">
            <a:off x="798120" y="2464920"/>
            <a:ext cx="2307240" cy="5184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5" idx="2"/>
          </p:cNvCxnSpPr>
          <p:nvPr/>
        </p:nvCxnSpPr>
        <p:spPr>
          <a:xfrm flipV="1">
            <a:off x="1234800" y="2490120"/>
            <a:ext cx="135720" cy="9183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51560" y="3261240"/>
            <a:ext cx="365040" cy="37332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1"/>
          </p:cNvCxnSpPr>
          <p:nvPr/>
        </p:nvCxnSpPr>
        <p:spPr>
          <a:xfrm>
            <a:off x="452520" y="3169800"/>
            <a:ext cx="597600" cy="975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206280" y="2968200"/>
            <a:ext cx="486360" cy="340200"/>
            <a:chOff x="206280" y="2968200"/>
            <a:chExt cx="486360" cy="340200"/>
          </a:xfrm>
        </p:grpSpPr>
        <p:sp>
          <p:nvSpPr>
            <p:cNvPr id="144" name=""/>
            <p:cNvSpPr/>
            <p:nvPr/>
          </p:nvSpPr>
          <p:spPr>
            <a:xfrm>
              <a:off x="206280" y="2968560"/>
              <a:ext cx="48600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4" idx="0"/>
              <a:endCxn id="144" idx="1"/>
            </p:cNvCxnSpPr>
            <p:nvPr/>
          </p:nvCxnSpPr>
          <p:spPr>
            <a:xfrm>
              <a:off x="206280" y="2968200"/>
              <a:ext cx="48672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sp>
        <p:nvSpPr>
          <p:cNvPr id="147" name=""/>
          <p:cNvSpPr/>
          <p:nvPr/>
        </p:nvSpPr>
        <p:spPr>
          <a:xfrm rot="16200000">
            <a:off x="2201760" y="3943440"/>
            <a:ext cx="409680" cy="371520"/>
          </a:xfrm>
          <a:custGeom>
            <a:avLst/>
            <a:gdLst>
              <a:gd name="textAreaLeft" fmla="*/ 0 w 409680"/>
              <a:gd name="textAreaRight" fmla="*/ 410040 w 4096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4320" y="5068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0"/>
            <a:endCxn id="142" idx="2"/>
          </p:cNvCxnSpPr>
          <p:nvPr/>
        </p:nvCxnSpPr>
        <p:spPr>
          <a:xfrm flipH="1" flipV="1">
            <a:off x="1420560" y="3631680"/>
            <a:ext cx="986400" cy="29304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7" idx="1"/>
            <a:endCxn id="134" idx="4"/>
          </p:cNvCxnSpPr>
          <p:nvPr/>
        </p:nvCxnSpPr>
        <p:spPr>
          <a:xfrm flipV="1">
            <a:off x="2406240" y="2650320"/>
            <a:ext cx="475560" cy="1274040"/>
          </a:xfrm>
          <a:prstGeom prst="straightConnector1">
            <a:avLst/>
          </a:prstGeom>
          <a:ln w="28440">
            <a:solidFill>
              <a:srgbClr val="2a5554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8" idx="0"/>
            <a:endCxn id="147" idx="2"/>
          </p:cNvCxnSpPr>
          <p:nvPr/>
        </p:nvCxnSpPr>
        <p:spPr>
          <a:xfrm flipV="1">
            <a:off x="2393640" y="4333680"/>
            <a:ext cx="13320" cy="735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42" idx="3"/>
          </p:cNvCxnSpPr>
          <p:nvPr/>
        </p:nvCxnSpPr>
        <p:spPr>
          <a:xfrm flipH="1" flipV="1">
            <a:off x="1234800" y="3408120"/>
            <a:ext cx="527760" cy="16610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3"/>
            <a:endCxn id="134" idx="5"/>
          </p:cNvCxnSpPr>
          <p:nvPr/>
        </p:nvCxnSpPr>
        <p:spPr>
          <a:xfrm flipH="1" flipV="1" rot="5400000">
            <a:off x="2007000" y="3049560"/>
            <a:ext cx="1274040" cy="475560"/>
          </a:xfrm>
          <a:prstGeom prst="curvedConnector5">
            <a:avLst>
              <a:gd name="adj1" fmla="val 48728"/>
              <a:gd name="adj2" fmla="val 50000"/>
              <a:gd name="adj3" fmla="val 48728"/>
            </a:avLst>
          </a:prstGeom>
          <a:ln cap="sq" w="28440">
            <a:solidFill>
              <a:srgbClr val="5f975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8CF-BAF4-4C2B-A677-BA6B839C68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7697E-006 L -0.29392 0.00208 E">
                                      <p:cBhvr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3876E-007 L 0.14323 0.28307 E">
                                      <p:cBhvr>
                                        <p:cTn id="7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M asynchrone en mémoire répliqué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3—200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7360" y="1988640"/>
            <a:ext cx="4346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calability </a:t>
            </a: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synch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Local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Distributed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ufficient safety ru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Union rul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lean propagation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mprehensive scanning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reate before delet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ausal deliver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rDi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86000" y="3529080"/>
            <a:ext cx="139680" cy="17222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840" y="3519360"/>
            <a:ext cx="914400" cy="685800"/>
          </a:xfrm>
          <a:prstGeom prst="rect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8520" y="3938760"/>
            <a:ext cx="21564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1120" y="3621240"/>
            <a:ext cx="21600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3160" y="3735360"/>
            <a:ext cx="216000" cy="21600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41760" y="3754440"/>
            <a:ext cx="266760" cy="6336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41760" y="3900600"/>
            <a:ext cx="279360" cy="13968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5040" y="3875040"/>
            <a:ext cx="419040" cy="1015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071600" y="4194000"/>
            <a:ext cx="165240" cy="171792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4520" y="3532320"/>
            <a:ext cx="592200" cy="17636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9480" y="5227560"/>
            <a:ext cx="90180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9360" y="5646600"/>
            <a:ext cx="2048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9840" y="5342040"/>
            <a:ext cx="2016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4400" y="5494320"/>
            <a:ext cx="291960" cy="1396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204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3360" y="5646600"/>
            <a:ext cx="2030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1596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0800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3660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988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564660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6380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584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8444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444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11600" y="5583240"/>
            <a:ext cx="419040" cy="889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4871880"/>
            <a:ext cx="0" cy="5590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280" y="5316480"/>
            <a:ext cx="330120" cy="2034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731960" y="5773320"/>
            <a:ext cx="876240" cy="126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4560" y="5430960"/>
            <a:ext cx="343080" cy="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9520" y="3282840"/>
            <a:ext cx="2343240" cy="1074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7040" y="3281400"/>
            <a:ext cx="1512720" cy="1063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36760" y="3532320"/>
            <a:ext cx="9126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66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64644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9880" y="3798720"/>
            <a:ext cx="304920" cy="152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7520" y="3532320"/>
            <a:ext cx="9144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1800" y="3633840"/>
            <a:ext cx="21564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3840" y="3747960"/>
            <a:ext cx="2142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2440" y="3766680"/>
            <a:ext cx="266400" cy="6372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440" y="3913200"/>
            <a:ext cx="279360" cy="13968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7520" y="4230720"/>
            <a:ext cx="623880" cy="16923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760" y="3621240"/>
            <a:ext cx="343080" cy="215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8200" y="3164040"/>
            <a:ext cx="0" cy="5713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123920" y="4084200"/>
            <a:ext cx="876240" cy="1116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0400" y="3741840"/>
            <a:ext cx="355680" cy="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73080" y="370188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84160" y="3760920"/>
            <a:ext cx="236520" cy="1918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880" y="380520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8600" y="3863880"/>
            <a:ext cx="2365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FDD-1A91-4495-9E61-8D3917D0A6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5:05:42Z</dcterms:created>
  <dc:creator>shapiro</dc:creator>
  <dc:description/>
  <dc:language>en-US</dc:language>
  <cp:lastModifiedBy>shapiro</cp:lastModifiedBy>
  <dcterms:modified xsi:type="dcterms:W3CDTF">2002-12-12T17:11:28Z</dcterms:modified>
  <cp:revision>99</cp:revision>
  <dc:subject/>
  <dc:title>Replication: optimistic approach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